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1E5-D84F-4092-A824-C4A49677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C0C-8FEE-4B79-B8EA-32905B7D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E56-479F-42EE-8090-AF4A4C1D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AA1-3681-4948-9659-CC7C6210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D079-0E03-45F6-A2DB-BB35687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EC67-F684-4066-828D-251A2E71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38F1-5F76-4E18-93DE-A94705B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C4D1-35FD-452F-91D8-52B40EA7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E045-08C9-456E-B968-D8FC9E2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ED4-1BDB-4C77-8222-962226E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4D8B-9A2B-4E9D-87DA-4847A49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543-12F8-4A13-AEDA-2A7A23C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75CE-10D0-465A-AD6A-AAA630D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80C-0528-4F73-AAEB-2B891D3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4C06-325A-44EF-B171-169F9EF1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CDA8-1F4A-42B8-AE33-0F673D40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177D-2D7B-491C-B5F4-32D10521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68A-621A-4460-8951-771F8E09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0C4-5DDB-4CB8-A86C-A86B61F9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86D-6FA4-46E6-B97B-9FDE5047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CC6-75DD-47F8-B79D-AB4E351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BBB-6F99-4D9D-8ACC-1359515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CC-B843-4046-990C-50A91CB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BC9-A1E9-4336-B4CB-BAA310C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362-4CA6-4EBC-BA84-6819C71D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7AC2-EB36-41A8-A740-897F046C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mathacademy.com/pr/mathstore/downloadables/index.asp?CAT=recreations&amp;CID=none&amp;SC=none&amp;PID=5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. C. Esc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e it remains an open question whether [this work] pertains to the realm of mathematics or to that of ar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http://www.mathacademy.com/pr/minitext/escher/self_portrait.gif"/>
          <p:cNvPicPr/>
          <p:nvPr/>
        </p:nvPicPr>
        <p:blipFill>
          <a:blip r:embed="rId1"/>
          <a:stretch/>
        </p:blipFill>
        <p:spPr>
          <a:xfrm>
            <a:off x="3200400" y="1295280"/>
            <a:ext cx="28875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concept because of artificial intelligence’s inability to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http://www.mathacademy.com/pr/minitext/escher/drawing_hands.gif"/>
          <p:cNvPicPr/>
          <p:nvPr/>
        </p:nvPicPr>
        <p:blipFill>
          <a:blip r:embed="rId1"/>
          <a:stretch/>
        </p:blipFill>
        <p:spPr>
          <a:xfrm>
            <a:off x="2438280" y="3124080"/>
            <a:ext cx="396252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hough Escher was not trained as a mathematician, his geometric theoretical discoveries have made a tremendous impact on both the mathematic and artistic worl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shapes: sid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 concepts: symmetry, congr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: translations, reflections, r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expression – visual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role in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convey the features of Escher’s mathematical work, many resources may b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gram-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of polygons and angles for t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 such as in flooring, quilts, mosa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tessellations: manual,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M. C. E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ose who attempt the absurd will achieve the impossible. I think it's in my basement... let me go upstairs and check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keenly confronting the enigmas that surround us, and by considering and analysing the observations that I have made, I ended up in the domain of mathematics, Although I am absolutely without training in the exact sciences, I often seem to have more in common with mathematicians than with my fellow artis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ws of mathematics are not merely human inventions or creations. They simply 'are'; they exist quite independently of the human intellect. The most that any(one) ... can do is to find that they are there and to take cognizance of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of Es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d 1898 to 1972 in Hol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never a good student, even in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w to enjoy graphic art and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fascinated with geometry and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http://www-gap.dcs.st-and.ac.uk/~history/Miscellaneous/Escher/Escher_fish.jpeg"/>
          <p:cNvPicPr/>
          <p:nvPr/>
        </p:nvPicPr>
        <p:blipFill>
          <a:blip r:embed="rId1"/>
          <a:stretch/>
        </p:blipFill>
        <p:spPr>
          <a:xfrm>
            <a:off x="4800600" y="2514600"/>
            <a:ext cx="3809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of Es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ed relation to math from br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stallograp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systematic approach for tiling and use of space in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me mathematician through his discoveries in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ploiting many features of geometry, he opened new domain of mathematical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first I had no idea at all of the possibility of systematically building up my figures. I did not know ... this was possible for someone untrained in mathematics, and especially as a result of my putting forward my own layman's theory, which forced me to think through the possibiliti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cher, 19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her’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an with landsc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d through drawings, lithographs, and wood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tudying ideas of planes and geometry,  developed work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s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he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pe of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gic of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http://www-gap.dcs.st-and.ac.uk/~history/Miscellaneous/Escher/Escher_reptiles.jpeg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sel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as regular divisions of a plane; closed shapes that do not overlap nor leave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nly known for triangles, squares, and hexa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her discovered use of irregular polyg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s, translations, and r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hree, four, or six fold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http://www.mathacademy.com/pr/minitext/escher/alhambra.gif"/>
          <p:cNvPicPr/>
          <p:nvPr/>
        </p:nvPicPr>
        <p:blipFill>
          <a:blip r:embed="rId1"/>
          <a:stretch/>
        </p:blipFill>
        <p:spPr>
          <a:xfrm>
            <a:off x="5256360" y="2057400"/>
            <a:ext cx="297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hed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onic solids: polyhedron with same polygonal f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ng or stellating for new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http://www.mathacademy.com/pr/minitext/escher/stars.gif"/>
          <p:cNvPicPr/>
          <p:nvPr/>
        </p:nvPicPr>
        <p:blipFill>
          <a:blip r:embed="rId1"/>
          <a:stretch/>
        </p:blipFill>
        <p:spPr>
          <a:xfrm>
            <a:off x="5029200" y="2590920"/>
            <a:ext cx="2519280" cy="310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ttp://www.mathacademy.com/pr/minitext/escher/four_reg_sol.gif"/>
          <p:cNvPicPr/>
          <p:nvPr/>
        </p:nvPicPr>
        <p:blipFill>
          <a:blip r:embed="rId2"/>
          <a:stretch/>
        </p:blipFill>
        <p:spPr>
          <a:xfrm>
            <a:off x="914400" y="2590920"/>
            <a:ext cx="3352680" cy="3033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838080" y="5943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your own polyhedron: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  <a:hlinkClick r:id="rId3"/>
              </a:rPr>
              <a:t>Platonic Soli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hape of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bolic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http://www.mathacademy.com/pr/minitext/escher/mobius_strip.gif"/>
          <p:cNvPicPr/>
          <p:nvPr/>
        </p:nvPicPr>
        <p:blipFill>
          <a:blip r:embed="rId1"/>
          <a:stretch/>
        </p:blipFill>
        <p:spPr>
          <a:xfrm>
            <a:off x="6629400" y="1523880"/>
            <a:ext cx="1771560" cy="381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www.mathacademy.com/pr/minitext/escher/three_int_solids.gif"/>
          <p:cNvPicPr/>
          <p:nvPr/>
        </p:nvPicPr>
        <p:blipFill>
          <a:blip r:embed="rId2"/>
          <a:stretch/>
        </p:blipFill>
        <p:spPr>
          <a:xfrm>
            <a:off x="228600" y="2438280"/>
            <a:ext cx="3106800" cy="271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www.mathacademy.com/pr/minitext/escher/circle_limit.gif"/>
          <p:cNvPicPr/>
          <p:nvPr/>
        </p:nvPicPr>
        <p:blipFill>
          <a:blip r:embed="rId3"/>
          <a:stretch/>
        </p:blipFill>
        <p:spPr>
          <a:xfrm>
            <a:off x="3429000" y="3200400"/>
            <a:ext cx="2870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ic of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ometry of space determines its logic, and likewise the logic of space often determines its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nd shad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is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http://www.mathacademy.com/pr/minitext/escher/cube_with_ribbons.gif"/>
          <p:cNvPicPr/>
          <p:nvPr/>
        </p:nvPicPr>
        <p:blipFill>
          <a:blip r:embed="rId1"/>
          <a:stretch/>
        </p:blipFill>
        <p:spPr>
          <a:xfrm>
            <a:off x="990720" y="4114800"/>
            <a:ext cx="2438280" cy="24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www.mathacademy.com/pr/minitext/escher/high_and_low.gif"/>
          <p:cNvPicPr/>
          <p:nvPr/>
        </p:nvPicPr>
        <p:blipFill>
          <a:blip r:embed="rId2"/>
          <a:stretch/>
        </p:blipFill>
        <p:spPr>
          <a:xfrm>
            <a:off x="6019920" y="3124080"/>
            <a:ext cx="147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1:30:25Z</dcterms:created>
  <dc:creator>Jessica Tybursky</dc:creator>
  <dc:description/>
  <dc:language>en-US</dc:language>
  <cp:lastModifiedBy>Jessica Tybursky</cp:lastModifiedBy>
  <dcterms:modified xsi:type="dcterms:W3CDTF">2011-09-16T13:57:48Z</dcterms:modified>
  <cp:revision>18</cp:revision>
  <dc:subject/>
  <dc:title>M.C. Escher</dc:title>
</cp:coreProperties>
</file>